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BBF6F-33EB-459C-9DC2-DDEF27ADF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DC28-B349-49C4-A151-C6DC287F5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778E3-D319-4AFF-9E2C-7D856B280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A8C98-8140-43F9-9164-B32CC1B69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CE55D-F943-4E88-80CA-DF6AB654D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EB5C4-B8C9-43BA-988C-235AA5B35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0B695-5BD5-40A4-8D7A-5F0409D59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4B161-74DE-4184-BBE8-0BF47D5BD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FEC35-FCA6-4B4E-BAA9-B82B79260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4E534-0860-4971-B9E5-57082232D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9172E-9540-4261-8D0E-47B534316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AE8CE-52F9-41F6-A1DE-55758A79C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CE07-2870-4FEB-8D19-5B3EE9D6E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25A60-AA37-41D7-80BB-4AA5498D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71812-141D-4B04-AACB-A8B2A99F9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F8FA7-8EC7-4EE9-9318-4BACEF4CF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E6CA7-1D83-4093-A216-C56AA620C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66140-DEB5-4F0B-A70E-1169B6C1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1D22D-DD59-42AE-8AE8-31368E0B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D6751-28B9-4251-9110-354DD65D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C518E-241D-424E-A36E-A1ABD6963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57F36-0BC1-40AD-8546-C6EA2770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817F-59CA-4288-A614-758E31A4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C06FD-8B75-418F-A3B5-EF5A561F5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AEB9-BFBC-42EA-9716-6B1E1CE03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084F-1DA9-4203-8448-B8DE22D0E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p101classroommanagement.wikispace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p101classroommanagement.wikispaces.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EP101 Unit 4:</a:t>
            </a:r>
            <a:r>
              <a:rPr b="0" lang="en-US" sz="2400" spc="-1" strike="noStrike">
                <a:solidFill>
                  <a:srgbClr val="000000"/>
                </a:solidFill>
                <a:latin typeface="Verdana"/>
              </a:rPr>
              <a:t>  </a:t>
            </a:r>
            <a:r>
              <a:rPr b="0" lang="en-US" sz="3600" spc="-1" strike="noStrike">
                <a:solidFill>
                  <a:srgbClr val="000000"/>
                </a:solidFill>
                <a:latin typeface="Verdana"/>
              </a:rPr>
              <a:t>Establishing the Physical Learning Environment</a:t>
            </a:r>
            <a:endParaRPr b="0" lang="en-US" sz="3600" spc="-1" strike="noStrike">
              <a:solidFill>
                <a:srgbClr val="000000"/>
              </a:solidFill>
              <a:latin typeface="Verdana"/>
            </a:endParaRPr>
          </a:p>
        </p:txBody>
      </p:sp>
      <p:sp>
        <p:nvSpPr>
          <p:cNvPr id="86" name="PlaceHolder 2"/>
          <p:cNvSpPr>
            <a:spLocks noGrp="1"/>
          </p:cNvSpPr>
          <p:nvPr>
            <p:ph type="subTitle"/>
          </p:nvPr>
        </p:nvSpPr>
        <p:spPr>
          <a:xfrm>
            <a:off x="609480" y="3123720"/>
            <a:ext cx="701064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Please have your books nearby.</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eel free to chat with each othe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We will start class at 9 PM!</a:t>
            </a:r>
            <a:endParaRPr b="0" lang="en-US" sz="2800" spc="-1" strike="noStrike">
              <a:solidFill>
                <a:srgbClr val="000000"/>
              </a:solidFill>
              <a:latin typeface="Verdana"/>
            </a:endParaRPr>
          </a:p>
        </p:txBody>
      </p:sp>
      <p:pic>
        <p:nvPicPr>
          <p:cNvPr id="87" name="" descr=""/>
          <p:cNvPicPr/>
          <p:nvPr/>
        </p:nvPicPr>
        <p:blipFill>
          <a:blip r:embed="rId2"/>
          <a:stretch/>
        </p:blipFill>
        <p:spPr>
          <a:xfrm>
            <a:off x="5943600" y="4419720"/>
            <a:ext cx="2514600" cy="167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Weekly Reminders</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reading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Video</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Web Resourc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te in Discussion Board</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essay-like” responses to both questions</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d to your classmates’ posts with quality responses which encourage further dialogu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nd seminar or complete option 2</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project</a:t>
            </a:r>
            <a:endParaRPr b="0" lang="en-US" sz="2400" spc="-1" strike="noStrike">
              <a:solidFill>
                <a:srgbClr val="000000"/>
              </a:solidFill>
              <a:latin typeface="Verdana"/>
            </a:endParaRPr>
          </a:p>
          <a:p>
            <a:pPr marL="469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Verdana"/>
              </a:rPr>
              <a:t>Please refer to grading rubrics for all assignm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Unit 4 Project</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spond to the prompt succinctly in a one- to two- page essay:</a:t>
            </a:r>
            <a:endParaRPr b="0" lang="en-US" sz="19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aprofessional educators work in a variety of educational settings. You may be asked to work with groups of students in a variety of curriculum areas. </a:t>
            </a:r>
            <a:r>
              <a:rPr b="0" lang="en-US" sz="2100" spc="-1" strike="noStrike">
                <a:solidFill>
                  <a:srgbClr val="336699"/>
                </a:solidFill>
                <a:latin typeface="Verdana"/>
              </a:rPr>
              <a:t>Select a grade level that appeals to you and imagine you are working in a public school classroom with average students. Considering the need for a motivating environment, describe how you might expect to see the room set up. Considering a developmentally appropriate environment for the age that you are thinking about, describe how you would expect to see the classroom arranged and organized. Be sure to explain why you are making the choices you describ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Reference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rden, P. (2004) </a:t>
            </a:r>
            <a:r>
              <a:rPr b="0" i="1" lang="en-US" sz="2400" spc="-1" strike="noStrike">
                <a:solidFill>
                  <a:srgbClr val="000000"/>
                </a:solidFill>
                <a:latin typeface="Verdana"/>
              </a:rPr>
              <a:t>An Educator’s Guide to Classroom Management</a:t>
            </a:r>
            <a:r>
              <a:rPr b="0" lang="en-US" sz="2400" spc="-1" strike="noStrike">
                <a:solidFill>
                  <a:srgbClr val="000000"/>
                </a:solidFill>
                <a:latin typeface="Verdana"/>
              </a:rPr>
              <a:t>.  Boston, MA:  Houghton Miffl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night’s Quotes</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jamin Franklin </a:t>
            </a:r>
            <a:br>
              <a:rPr sz="2400"/>
            </a:br>
            <a:r>
              <a:rPr b="0" lang="en-US" sz="2400" spc="-1" strike="noStrike">
                <a:solidFill>
                  <a:srgbClr val="000000"/>
                </a:solidFill>
                <a:latin typeface="Verdana"/>
              </a:rPr>
              <a:t>By failing to prepare, you are preparing to fail. </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chard C. Cushing </a:t>
            </a:r>
            <a:br>
              <a:rPr sz="2400"/>
            </a:br>
            <a:r>
              <a:rPr b="0" lang="en-US" sz="2400" spc="-1" strike="noStrike">
                <a:solidFill>
                  <a:srgbClr val="000000"/>
                </a:solidFill>
                <a:latin typeface="Verdana"/>
              </a:rPr>
              <a:t>Always plan ahead. It wasn't raining when Noah built the ark. </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eanor Roosevelt </a:t>
            </a:r>
            <a:br>
              <a:rPr sz="2400"/>
            </a:br>
            <a:r>
              <a:rPr b="0" lang="en-US" sz="2400" spc="-1" strike="noStrike">
                <a:solidFill>
                  <a:srgbClr val="000000"/>
                </a:solidFill>
                <a:latin typeface="Verdana"/>
              </a:rPr>
              <a:t>It takes as much energy to wish as it does to pla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Verdana"/>
              </a:rPr>
              <a:t>The physical classroom…</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s to be planned prior to students’ arriva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flects the teacher’s personality and teaching sty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the teacher’s responsibility, but paraprofessionals can assist in organizing it and can give suggestion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Verdana"/>
              </a:rPr>
              <a:t>Things to consider</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access to materials for </a:t>
            </a:r>
            <a:r>
              <a:rPr b="1" i="1" lang="en-US" sz="2400" spc="-1" strike="noStrike">
                <a:solidFill>
                  <a:srgbClr val="000000"/>
                </a:solidFill>
                <a:latin typeface="Verdana"/>
              </a:rPr>
              <a:t>student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access to materials/teaching tools for </a:t>
            </a:r>
            <a:r>
              <a:rPr b="1" i="1" lang="en-US" sz="2400" spc="-1" strike="noStrike">
                <a:solidFill>
                  <a:srgbClr val="000000"/>
                </a:solidFill>
                <a:latin typeface="Verdana"/>
              </a:rPr>
              <a:t>teacher</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s of safety</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is interesting yet not distracting</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your population (age group, interests, cultures, language, special need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 of instructional delivery</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rden, p. 13-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ty One</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 the Class WikiSpac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ep101classroommanagement.wikispaces.com/</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on the link associated with your group and scan the article for interesting tips/inform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turn to the seminar prepared to share with classmat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Verdana"/>
              </a:rPr>
              <a:t>Student involvement in physical environment</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ce for their belonging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wnership in classroo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each responsibility and respect of others’ belonging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ir posted work/art give them sense of worth</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Verdana"/>
              </a:rPr>
              <a:t>Decorations/Wall Space</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m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t up charts, pocket charts, posters for students to referenc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play student work, class rules, schedu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t students physically label the room</a:t>
            </a:r>
            <a:endParaRPr b="0" lang="en-US" sz="26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2000" spc="-1" strike="noStrike">
                <a:solidFill>
                  <a:srgbClr val="336699"/>
                </a:solidFill>
                <a:latin typeface="Verdana"/>
              </a:rPr>
              <a:t>With all age groups you are teaching an underlying curriculum of social skills, self-esteem, independence, etc.</a:t>
            </a:r>
            <a:r>
              <a:rPr b="0" lang="en-US" sz="2000" spc="-1" strike="noStrike">
                <a:solidFill>
                  <a:srgbClr val="000000"/>
                </a:solidFill>
                <a:latin typeface="Verdana"/>
              </a:rPr>
              <a:t>  </a:t>
            </a:r>
            <a:r>
              <a:rPr b="0" i="1" lang="en-US" sz="2000" spc="-1" strike="noStrike">
                <a:solidFill>
                  <a:srgbClr val="cc0000"/>
                </a:solidFill>
                <a:latin typeface="Verdana"/>
              </a:rPr>
              <a:t>How are these evident in your physical class environment?</a:t>
            </a:r>
            <a:r>
              <a:rPr b="0" i="1" lang="en-US" sz="1600" spc="-1" strike="noStrike">
                <a:solidFill>
                  <a:srgbClr val="cc0000"/>
                </a:solidFill>
                <a:latin typeface="Verdana"/>
              </a:rPr>
              <a:t>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rden, p. 16)</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ty Two</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 the Class WikiSpace:</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ep101classroommanagement.wikispaces.com/</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on the link under Activity Two and explore the design tool the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turn to the seminar prepared to talk about whether you might find this useful.</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6699"/>
                </a:solidFill>
                <a:latin typeface="Verdana"/>
              </a:rPr>
              <a:t>RECAP</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teacher’s instructional goals and activities define the physical environment of the classroom?</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onsiderations need to be made  regarding specific needs of students in arranging the physical environmen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and the teacher make the best use of wall spa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16:04:41Z</dcterms:created>
  <dc:creator>Granite</dc:creator>
  <dc:description/>
  <dc:language>en-US</dc:language>
  <cp:lastModifiedBy>joyce.jones</cp:lastModifiedBy>
  <dcterms:modified xsi:type="dcterms:W3CDTF">2009-05-05T17:12:54Z</dcterms:modified>
  <cp:revision>12</cp:revision>
  <dc:subject/>
  <dc:title>EP101 Unit 4:  Establishing the Physical Learning Environment</dc:title>
</cp:coreProperties>
</file>